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205A5-F777-4AE4-B614-603F6AA63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D0BB1-8A72-4776-9F74-A6D7A0103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89796-FAAA-4563-9E69-39ABCEA3A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C751F-9F18-44B3-B227-BC7A399E0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5DE08-49B7-47D4-B117-96CDB75AD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FCBA9-6738-4060-A70D-C616DCF61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6E360-20DC-467D-8AEA-A4D88C6BE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0CCFF-60B8-4BF9-BA69-4CE095D55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71C48-7AFE-42C9-A0EA-842A3162E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29133-60C3-480E-994E-F3E994A49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26032-29B7-452A-BE18-721A1C889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B3BED-879E-44DE-9FAD-04B2FF4C3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B24E-4C21-4EE8-BF46-6629669A451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5e7575"/>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1066680"/>
          </a:xfrm>
          <a:prstGeom prst="rect">
            <a:avLst/>
          </a:prstGeom>
          <a:noFill/>
          <a:ln w="0">
            <a:noFill/>
          </a:ln>
        </p:spPr>
        <p:txBody>
          <a:bodyPr lIns="90000" rIns="90000" tIns="46800" bIns="46800"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reekC"/>
              </a:rPr>
              <a:t>Classe  1^  A  O.C.B.</a:t>
            </a:r>
            <a:br>
              <a:rPr sz="4000"/>
            </a:br>
            <a:r>
              <a:rPr b="1" i="1" lang="en-US" sz="4000" spc="-1" strike="noStrike">
                <a:solidFill>
                  <a:srgbClr val="ff0000"/>
                </a:solidFill>
                <a:latin typeface="GreekC"/>
              </a:rPr>
              <a:t>A.S.  2001/2002</a:t>
            </a:r>
            <a:endParaRPr b="0" lang="en-US" sz="4000" spc="-1" strike="noStrike">
              <a:solidFill>
                <a:srgbClr val="000000"/>
              </a:solidFill>
              <a:latin typeface="Times New Roman"/>
            </a:endParaRPr>
          </a:p>
        </p:txBody>
      </p:sp>
      <p:sp>
        <p:nvSpPr>
          <p:cNvPr id="42" name=""/>
          <p:cNvSpPr/>
          <p:nvPr/>
        </p:nvSpPr>
        <p:spPr>
          <a:xfrm>
            <a:off x="838080" y="388620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cc"/>
                </a:solidFill>
                <a:latin typeface="GreekC"/>
              </a:rPr>
              <a:t>alunni:</a:t>
            </a:r>
            <a:br>
              <a:rPr sz="2400"/>
            </a:br>
            <a:r>
              <a:rPr b="1" i="1" lang="it-IT" sz="2400" spc="-1" strike="noStrike">
                <a:solidFill>
                  <a:srgbClr val="0000cc"/>
                </a:solidFill>
                <a:latin typeface="GreekC"/>
              </a:rPr>
              <a:t>Loredana Rinaldi – Fabiola Stinellis – Alfredo Zandini</a:t>
            </a:r>
            <a:endParaRPr b="0" lang="en-US" sz="2400" spc="-1" strike="noStrike">
              <a:solidFill>
                <a:srgbClr val="000000"/>
              </a:solidFill>
              <a:latin typeface="Times New Roman"/>
            </a:endParaRPr>
          </a:p>
        </p:txBody>
      </p:sp>
    </p:spTree>
  </p:cSld>
  <p:transition advTm="6000">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143000"/>
            <a:ext cx="8763120" cy="266688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UDIAMO</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4343400"/>
            <a:ext cx="6400800" cy="1371600"/>
          </a:xfrm>
          <a:prstGeom prst="rect">
            <a:avLst/>
          </a:prstGeom>
          <a:gradFill rotWithShape="0">
            <a:gsLst>
              <a:gs pos="0">
                <a:srgbClr val="ccccff"/>
              </a:gs>
              <a:gs pos="100000">
                <a:srgbClr val="ccecff"/>
              </a:gs>
            </a:gsLst>
            <a:path path="rect">
              <a:fillToRect l="50000" t="50000" r="50000" b="50000"/>
            </a:path>
          </a:grad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DAI SUMERI  A……….</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
          <p:cNvSpPr txBox="1"/>
          <p:nvPr/>
        </p:nvSpPr>
        <p:spPr>
          <a:xfrm>
            <a:off x="380880" y="1676520"/>
            <a:ext cx="85345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Lucida Calligraphy"/>
              </a:rPr>
              <a:t>LE ORGANIZZAZIONI POLITICHE</a:t>
            </a:r>
            <a:endParaRPr b="0" lang="en-US" sz="2400" spc="1" strike="noStrike">
              <a:ln w="9360">
                <a:solidFill>
                  <a:srgbClr val="000000"/>
                </a:solidFill>
                <a:miter/>
              </a:ln>
              <a:gradFill rotWithShape="0">
                <a:gsLst>
                  <a:gs pos="0">
                    <a:srgbClr val="ffffff"/>
                  </a:gs>
                  <a:gs pos="100000">
                    <a:srgbClr val="ffffff"/>
                  </a:gs>
                </a:gsLst>
                <a:lin ang="5400000"/>
              </a:gradFill>
              <a:latin typeface="Lucida Calligraphy"/>
              <a:ea typeface="Lucida Calligraphy"/>
            </a:endParaRPr>
          </a:p>
        </p:txBody>
      </p:sp>
    </p:spTree>
  </p:cSld>
  <p:transition advTm="1000">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6324480"/>
          </a:xfrm>
          <a:prstGeom prst="rect">
            <a:avLst/>
          </a:prstGeom>
          <a:solidFill>
            <a:srgbClr val="ccccff"/>
          </a:solid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French Script MT"/>
              </a:rPr>
              <a:t>Troviamo le prime forme di organizzazione politica nelle città della Mesopotamia nel periodo sumerico. Ogni città era indipendente e aveva una sua politica estera che la portava , di volta in volta, ad allearsi o a scontrarsi con le altre. Ogni città, migliorando la propria economia, cercava di prevalere sulle altre. I successivi imperi (accadico, babilonese, assiro), per amministrare i territori conquistati, far pagare loro le tasse, difenderli in cambio dei tributi, fondarono un’organizzazione centralizzata. Le città sorgevano attorno ad un grande tempio, la ziggurat, che, oltre a centro religioso, era anche un grande complesso economico. Ogni città sumerica era governata da un re-sacerdote che promuoveva l’agricoltura, il commercio e l’artigianato, amministrava la giustizia, dirigeva l’amministrazione, guidava le spedizioni militari. Il sovrano era il maggiore proprietario di terre, riconosceva e garantiva la proprietà privata di tutti i sudditi. L’esistenza della proprietà privata contribuì allo sviluppo del diritto. Il re emanava le leggi per regolare le proprietà, i testamenti, le eredità, gli acquisti, le vendite, per evitare che qualcuno si impadronisse delle proprietà di un altro. Il re HAMMURABI di Babilonia, con il suo famoso CODICE, si riallacciò alle leggi che già esistevano nelle città dei Sumeri.</a:t>
            </a:r>
            <a:endParaRPr b="0" lang="en-US" sz="2000" spc="-1" strike="noStrike">
              <a:solidFill>
                <a:srgbClr val="000000"/>
              </a:solidFill>
              <a:latin typeface="Times New Roman"/>
            </a:endParaRPr>
          </a:p>
        </p:txBody>
      </p:sp>
    </p:spTree>
  </p:cSld>
  <p:transition advTm="30000">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895480" y="609120"/>
            <a:ext cx="3657600" cy="83844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ITTO  </a:t>
            </a:r>
            <a:endParaRPr b="0" lang="en-US" sz="4400" spc="-1" strike="noStrike">
              <a:solidFill>
                <a:srgbClr val="000000"/>
              </a:solidFill>
              <a:latin typeface="Times New Roman"/>
            </a:endParaRPr>
          </a:p>
        </p:txBody>
      </p:sp>
      <p:pic>
        <p:nvPicPr>
          <p:cNvPr id="48" name="SO01038_" descr=""/>
          <p:cNvPicPr/>
          <p:nvPr/>
        </p:nvPicPr>
        <p:blipFill>
          <a:blip r:embed="rId1"/>
          <a:stretch/>
        </p:blipFill>
        <p:spPr>
          <a:xfrm>
            <a:off x="6477120" y="2514600"/>
            <a:ext cx="1828800" cy="2666880"/>
          </a:xfrm>
          <a:prstGeom prst="rect">
            <a:avLst/>
          </a:prstGeom>
          <a:ln w="0">
            <a:noFill/>
          </a:ln>
        </p:spPr>
      </p:pic>
      <p:sp>
        <p:nvSpPr>
          <p:cNvPr id="49" name="PlaceHolder 2"/>
          <p:cNvSpPr>
            <a:spLocks noGrp="1"/>
          </p:cNvSpPr>
          <p:nvPr>
            <p:ph/>
          </p:nvPr>
        </p:nvSpPr>
        <p:spPr>
          <a:xfrm>
            <a:off x="685800" y="2971800"/>
            <a:ext cx="510552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file%20egitto" descr=""/>
          <p:cNvPicPr/>
          <p:nvPr/>
        </p:nvPicPr>
        <p:blipFill>
          <a:blip r:embed="rId2"/>
          <a:stretch/>
        </p:blipFill>
        <p:spPr>
          <a:xfrm>
            <a:off x="762120" y="3048120"/>
            <a:ext cx="4952880" cy="3009960"/>
          </a:xfrm>
          <a:prstGeom prst="rect">
            <a:avLst/>
          </a:prstGeom>
          <a:ln w="0">
            <a:noFill/>
          </a:ln>
        </p:spPr>
      </p:pic>
    </p:spTree>
  </p:cSld>
  <p:transition advTm="10000">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609480"/>
            <a:ext cx="7772400" cy="6019920"/>
          </a:xfrm>
          <a:prstGeom prst="rect">
            <a:avLst/>
          </a:prstGeom>
          <a:solidFill>
            <a:srgbClr val="00cc99"/>
          </a:solid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French Script MT"/>
              </a:rPr>
              <a:t>Più tardi le prime città organizzate, sotto la giuda politica di alcuni re-sacerdoti, sorsero in Egitto.Il re Menes, intorno al tremila .C., conquistò il Basso Egitto ed unificò tutto l’Egitto ponendo la sua capitale a Nelfy sul Delta del Nilo. La storia degli egiziani è collegata alle dinastie e governavano il paese. Essi raccoglievano gli avvenimenti storici raggruppandoli in periodi che si riferivano al loro sovrano il Faraone. L’ Egitto era uno stato teocratico, il Faraone era ritenuto figlio di un Dio e considerato una divinità era il capo civile, militare e religioso, le tombe erano le Piramidi, costruzioni imponenti il potere del Faraone era illimitato, egli era proprietario di ogni cosa: tutte le terre, gli appartenevano e lui affidava ai nobili, ai sacerdoti, ai funzionari; egli stesso sceglieva fra i nobili gli ufficiale dell’ esercito. In posizione inferiore rispetto ai sacerdoti, ai nobili, ed agli ufficiali, c’erano gli artigiani i contadini e gli schiavi. I contadini lavoravano i campi  posti lungo il Nilo. Le famiglie dei contadini e degli ufficiali ricevevano dal Faraone, una casa e un pezzetto di terra, in cambio dovevano costruire e mantenere in buono stato gli argini e canali del fiume ed edificare templi e piramidi. Gli schiavi erano i prigionieri di guerra o i loro discendenti oppure le tribù del deserto, che si facevano schiavi  per avere il necessario per sfamarsi, infine c’erano gli schiavi per debiti. Gli schiavi potevano essere liberati diventando contadini, soldati a pagamento, artigiani nell’esercito.    </a:t>
            </a:r>
            <a:endParaRPr b="0" lang="en-US" sz="1600" spc="-1" strike="noStrike">
              <a:solidFill>
                <a:srgbClr val="000000"/>
              </a:solidFill>
              <a:latin typeface="Times New Roman"/>
            </a:endParaRPr>
          </a:p>
        </p:txBody>
      </p:sp>
    </p:spTree>
  </p:cSld>
  <p:transition advTm="30000">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2T08:33:29Z</dcterms:created>
  <dc:creator>1A OCB</dc:creator>
  <dc:description/>
  <dc:language>en-US</dc:language>
  <cp:lastModifiedBy>lab_1a</cp:lastModifiedBy>
  <dcterms:modified xsi:type="dcterms:W3CDTF">2002-03-13T16:56:54Z</dcterms:modified>
  <cp:revision>20</cp:revision>
  <dc:subject/>
  <dc:title>STUDIAMO</dc:title>
</cp:coreProperties>
</file>