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449-84BA-41EF-8795-ADDB87B5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08B-E576-4238-A4CE-0E8D7E8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B61-A9C5-46DB-AFB3-C9521693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EAB-0F09-4FCB-8438-03969A85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EC7-70A0-42D7-B309-90C7F0C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00E-BA1B-446C-9746-8FFBFFC5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392-BE0D-4294-AA9D-F9B1771F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38A-A026-414D-8F49-F22BBFF8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5EA-DF09-46AE-BD08-BD61331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9E7-EB55-48B5-ADC9-A4A50B0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931-5BD3-47E9-82D0-715A00B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75D-4FC9-4C07-831B-3E5CB6B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898-C5A1-41B0-AF4A-EC562172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Usage M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si del comportamento di navigazione e classificazione degli ut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zione al sito della Biblioteca di Ate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16A-CC1E-4D75-91F3-DC26B39595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o Internet della Bibliotec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l’Università degli Studi di Milano - Bico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62320" cy="460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59280" y="2133720"/>
            <a:ext cx="403236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ttura del 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ine richi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876-85A5-40A9-B3DF-976B68CFB3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ftware WUM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Web Utilization Miner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stema integrato per il Web Usage Mining sviluppato nell’ambito di un progetto di ricerca dell’Università Humboldt di Berlino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aculty of Economics, Institute of Information System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mento integrato che permette di effettuare operazioni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trattamento dei 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rogazione (query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sualizzazione dei risul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254-D197-4838-83F7-89B85E7580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eb Utilization M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885960"/>
            <a:ext cx="7343640" cy="52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755-CABD-4CEB-B9E9-C50239A940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ole e sequenze associative: alcun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292640"/>
        </p:xfrm>
        <a:graphic>
          <a:graphicData uri="http://schemas.openxmlformats.org/drawingml/2006/table">
            <a:tbl>
              <a:tblPr/>
              <a:tblGrid>
                <a:gridCol w="3538440"/>
                <a:gridCol w="3313080"/>
                <a:gridCol w="13780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ina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ina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de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zazione.servizi.informa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f.ht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i.lavoro.internet.s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tra/intranet.ht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zazione.organi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ga.pd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he.ind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t.ht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zioni.ricerchebibliograf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aqref.ht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orse.elettroniche.areadisciplin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rdisci.ht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A70-259E-464E-8650-250D2438BD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e per una migliore organizzazione del s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amenti alle pagine correlate tra 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a d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fetc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uperare altri contenuti web quando la connessione del browser dell’utente è inat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AC4-D4C4-4FAD-9217-8AFCDD83B9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zione della matrice dei d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dur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woStep Cluster Analysi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DB2-EA12-4B68-BDBE-A8D70F1F96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zione all’interno dei c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C78-D1F8-40A7-8A32-45A4459038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 1: Ricercatori informatizz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zo del sito rivolto soprattutto alla navigazione di pagine relative al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orse elettronich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enza a rimanere aggiornati tramite il frequente accesso agli avvisi e alle altre pagine di informazione. Probabilmente una buona parte di questo gruppo è rappresentata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enti, ricercatori, dottorandi e tesi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752720" cy="36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FD9-492C-43AF-A7FF-E3D825CB52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 2: Ricercatori tradizio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enti che accedono principalmente 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o dei periodici cartac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eduti dalla biblioteca. Sono inoltre interessati all’organizzazione della biblioteca e alle informazioni relative al catalogo OPAC. Molti accedono anche alle informazioni sulla sede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obabilmente anche questo gruppo è formato principalmente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enti, ricercatori, dottorandi e tesi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762440" cy="36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C8E-70BC-4C89-BE44-F4A01BDDC2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 3: Diretti all’OPA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869000"/>
            <a:ext cx="813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ori accomunati dal fatto di visitare quasi esclusivame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home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sito. Probabilmente accederanno successivamente al catalog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e altre pagine con maggiore accesso sono il catalogo periodici e la pagina dei link, forse per estendere la ricerca alle altre biblioteche. Si può supporre che questo gruppo sia formato principalmente dag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i universita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762440" cy="36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5D8-0FD8-484D-9E17-72B305EC44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di selezione, esplorazione e modellazione di grandi masse di dati, al fine di scoprire regolarità o relazioni non note a priori, e allo scopo di ottenere un risultato chiaro e utile al proprietario del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220-E83D-4F03-AF5D-30C53EB7A9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 4: Bibliotec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5013360"/>
            <a:ext cx="813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azione media estremamente alta delle pagine riguardanti 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i di lavo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trebbero ess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i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e lavorano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to bibliotec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cedono ai documenti per informarsi e per avere dei punti di rifer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762440" cy="36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E2C-1F43-4EAA-AE17-5EBDA7CA9A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 5: Curi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4941360"/>
            <a:ext cx="8135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ruttano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e inform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sito. La loro navigazione avviene principalmente sulle pagine: informazioni generali, organizzazione della biblioteca, statistiche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 altri siti di interesse. Questo gruppo di utenti potrebbe essere composto per lo più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i universita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da aspiranti tali, ma anche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i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gati al mondo delle bibliote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753080" cy="36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28B-7C43-4357-9619-F030C6FE53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e per un migliore utilizzo del s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re de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orsi personalizz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i cinque diversi tipi di ut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ciascun grupp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gate reciproca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raverso l’inserimento d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ire nel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e 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gamenti alle pagine più importan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ciascun gru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FE7-5D32-46F9-8883-3EB772A661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nalisi con le tecniche di Web Usage Mining ha permesso di individ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ercorsi preferenzial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ipologie di utenti del s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sito può essere migliorato per andare incontro alle esigenze degli ut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rire dei nuovi servizi che possono essere offerti, alla luce del comportamento degli ut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76F-6CC8-4176-9723-2715977BD5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M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Content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lassificazione e ordinamento delle pagine in base al conten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tructure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lassificazione delle pagine in base ai collegamenti, ordinamento delle pagine attraverso una combinazione di contenuto e strut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Usage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strazione di conoscenza da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g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web ser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108-71F1-4817-928E-7A7BE5665A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Usage Mining - Applic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zazione de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stegno al web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f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urare e migliorare la soddisfazione del cliente in siti d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8EF-00B9-4CD6-9913-710F355CA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ole e sequenze assoc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636-7657-4143-A551-4A6AEC4EE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ole e sequenze assoc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ica di Data Mining più elementare e, allo stesso tempo, più utilizzata nel Web Usage M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gono usate per trovare associazioni e modelli di navigazi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quenzi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 le pagine che appaiono frequentemente nelle sessioni ut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AA6-D61F-44B1-864A-68BDB92090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ole e sequenze assoc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 d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la seq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124000" y="2349360"/>
                <a:ext cx="2952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940360" y="1557360"/>
                <a:ext cx="151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24000" y="4149720"/>
                <a:ext cx="338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FD5-483D-4B02-9D79-CEC944844C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ole e sequenze assoc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 d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la seq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372360" y="1557360"/>
                <a:ext cx="151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55640" y="2205000"/>
                <a:ext cx="5400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55640" y="4076640"/>
                <a:ext cx="6192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98C-5943-4BF2-89CE-E3202A23C3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iche che cercano gruppi di elementi simili tra grandi quantità di dati basate sull’idea generale d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zione di distan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 calcola la similarità tra i gru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clustering viene utilizzato nel Web Usage Mining per raggruppare insiemi di sessioni simi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Tavel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1F6-E2B3-4B7F-8E93-80D17D8F71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eb Usage Min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7:16:59Z</dcterms:created>
  <dc:creator>Gianluca Tavella</dc:creator>
  <dc:description/>
  <dc:language>en-US</dc:language>
  <cp:lastModifiedBy>Gianluca Tavella</cp:lastModifiedBy>
  <dcterms:modified xsi:type="dcterms:W3CDTF">2004-09-21T12:40:18Z</dcterms:modified>
  <cp:revision>13</cp:revision>
  <dc:subject/>
  <dc:title>Web Usage Mining</dc:title>
</cp:coreProperties>
</file>